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B84-D75D-4B22-A5D0-246C0C44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4AA-9D3D-4FED-84EF-2D1EAF4DF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E18-DB5A-4942-979D-013C8D845C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8842-F3E2-4525-8FA7-CEA2E2B45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C77-C720-4001-86BE-7111BB35B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864F-ABA9-4E4B-BE82-DB030EB63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2A12-D3BF-441E-BDE0-B43EE6560A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E33-07AE-4A21-AD81-2456E5EA6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88F-3929-42C8-B0E3-1142BE3AAF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1FD2-553C-4B3E-A2C3-51AC6260CD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CE5-66C5-4160-82D9-55A82263D4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ABF-A40B-446B-B6EE-2073D8EE53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0D07-58E1-47AA-8BBA-46C8C900F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BB9-2762-4523-B29A-94383D687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F498-D743-4ED8-B01D-869D68AFE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2E1-9989-4979-87D5-8CE3F7DC1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730C-E0A9-4317-B93C-90CFB187C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36B-98B5-4EC9-AE30-04C8E6D20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8591-628C-425E-BF19-FB4F65647E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2A5-893D-4C23-8007-B9E74AB19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CDD8-71DA-4084-AA2C-1AD94B648E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6E4D-6970-4C6F-A715-0587396F15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FBF-212C-4BCF-867E-11CF9C0FD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28D-C29F-4F66-A5E1-190C6779A8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0FD6-98C3-4FE0-9607-F0DB0199BB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152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82280" y="215892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2040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152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82280" y="4231080"/>
            <a:ext cx="279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0760" y="1235160"/>
            <a:ext cx="859464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0" y="423108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0" y="2158920"/>
            <a:ext cx="42303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0400" y="4231080"/>
            <a:ext cx="8669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glencoe.com/" TargetMode="External"/><Relationship Id="rId5" Type="http://schemas.openxmlformats.org/officeDocument/2006/relationships/hyperlink" Target="file:///C:/Documents%20and%20Settings/jhakim/Stroudsburg%202009-2010/Intro%20To%20Business/ITB/Assessments/Ch_03_Assessment.pp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6">
            <a:hlinkClick r:id="" action="ppaction://hlinkshowjump?jump=endshow"/>
          </p:cNvPr>
          <p:cNvSpPr/>
          <p:nvPr/>
        </p:nvSpPr>
        <p:spPr>
          <a:xfrm>
            <a:off x="343080" y="6303960"/>
            <a:ext cx="71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7">
            <a:hlinkClick r:id="rId4"/>
          </p:cNvPr>
          <p:cNvSpPr/>
          <p:nvPr/>
        </p:nvSpPr>
        <p:spPr>
          <a:xfrm>
            <a:off x="1582560" y="6303960"/>
            <a:ext cx="712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8"/>
          <p:cNvSpPr/>
          <p:nvPr/>
        </p:nvSpPr>
        <p:spPr>
          <a:xfrm>
            <a:off x="2857680" y="6303960"/>
            <a:ext cx="98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9">
            <a:hlinkClick r:id="rId5"/>
          </p:cNvPr>
          <p:cNvSpPr/>
          <p:nvPr/>
        </p:nvSpPr>
        <p:spPr>
          <a:xfrm>
            <a:off x="4448160" y="6303960"/>
            <a:ext cx="177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" descr="section 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>
            <a:hlinkClick r:id="" action="ppaction://hlinkshowjump?jump=previousslide"/>
          </p:cNvPr>
          <p:cNvSpPr/>
          <p:nvPr/>
        </p:nvSpPr>
        <p:spPr>
          <a:xfrm>
            <a:off x="7297560" y="6384960"/>
            <a:ext cx="525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>
            <a:hlinkClick r:id="" action="ppaction://hlinkshowjump?jump=nextslide"/>
          </p:cNvPr>
          <p:cNvSpPr/>
          <p:nvPr/>
        </p:nvSpPr>
        <p:spPr>
          <a:xfrm>
            <a:off x="7942320" y="6384960"/>
            <a:ext cx="525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hite glow"/>
          <p:cNvPicPr/>
          <p:nvPr/>
        </p:nvPicPr>
        <p:blipFill>
          <a:blip r:embed="rId3"/>
          <a:stretch/>
        </p:blipFill>
        <p:spPr>
          <a:xfrm>
            <a:off x="469800" y="295272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white glow"/>
          <p:cNvPicPr/>
          <p:nvPr/>
        </p:nvPicPr>
        <p:blipFill>
          <a:blip r:embed="rId4"/>
          <a:stretch/>
        </p:blipFill>
        <p:spPr>
          <a:xfrm>
            <a:off x="3035160" y="1914480"/>
            <a:ext cx="457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white glow"/>
          <p:cNvPicPr/>
          <p:nvPr/>
        </p:nvPicPr>
        <p:blipFill>
          <a:blip r:embed="rId5"/>
          <a:stretch/>
        </p:blipFill>
        <p:spPr>
          <a:xfrm>
            <a:off x="1633680" y="3516480"/>
            <a:ext cx="304560" cy="23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white glow"/>
          <p:cNvPicPr/>
          <p:nvPr/>
        </p:nvPicPr>
        <p:blipFill>
          <a:blip r:embed="rId6"/>
          <a:stretch/>
        </p:blipFill>
        <p:spPr>
          <a:xfrm>
            <a:off x="2808360" y="3103560"/>
            <a:ext cx="304560" cy="23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white glow"/>
          <p:cNvPicPr/>
          <p:nvPr/>
        </p:nvPicPr>
        <p:blipFill>
          <a:blip r:embed="rId7"/>
          <a:stretch/>
        </p:blipFill>
        <p:spPr>
          <a:xfrm>
            <a:off x="3773520" y="301932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white glow"/>
          <p:cNvPicPr/>
          <p:nvPr/>
        </p:nvPicPr>
        <p:blipFill>
          <a:blip r:embed="rId8"/>
          <a:stretch/>
        </p:blipFill>
        <p:spPr>
          <a:xfrm>
            <a:off x="4017960" y="2951280"/>
            <a:ext cx="262080" cy="2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white glow"/>
          <p:cNvPicPr/>
          <p:nvPr/>
        </p:nvPicPr>
        <p:blipFill>
          <a:blip r:embed="rId9"/>
          <a:stretch/>
        </p:blipFill>
        <p:spPr>
          <a:xfrm>
            <a:off x="4626000" y="2949480"/>
            <a:ext cx="262080" cy="2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white glow"/>
          <p:cNvPicPr/>
          <p:nvPr/>
        </p:nvPicPr>
        <p:blipFill>
          <a:blip r:embed="rId10"/>
          <a:stretch/>
        </p:blipFill>
        <p:spPr>
          <a:xfrm>
            <a:off x="4836960" y="3016080"/>
            <a:ext cx="262080" cy="20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431680" y="5144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5433840" y="954000"/>
            <a:ext cx="292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Economic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Activity in a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hanging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5430240" y="24336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433840" y="2840040"/>
            <a:ext cx="24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The Business</a:t>
            </a:r>
            <a:br>
              <a:rPr sz="2800"/>
            </a:br>
            <a:r>
              <a:rPr b="1" lang="en-US" sz="2800" spc="-1" strike="noStrike">
                <a:solidFill>
                  <a:srgbClr val="ffcb05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6">
            <a:hlinkClick r:id="" action="ppaction://hlinkshowjump?jump=endshow"/>
          </p:cNvPr>
          <p:cNvSpPr/>
          <p:nvPr/>
        </p:nvSpPr>
        <p:spPr>
          <a:xfrm>
            <a:off x="6118200" y="393876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7"/>
          <p:cNvSpPr/>
          <p:nvPr/>
        </p:nvSpPr>
        <p:spPr>
          <a:xfrm>
            <a:off x="6118200" y="495792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8"/>
          <p:cNvSpPr/>
          <p:nvPr/>
        </p:nvSpPr>
        <p:spPr>
          <a:xfrm>
            <a:off x="6118200" y="547704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9"/>
          <p:cNvSpPr/>
          <p:nvPr/>
        </p:nvSpPr>
        <p:spPr>
          <a:xfrm>
            <a:off x="6118200" y="4438800"/>
            <a:ext cx="22780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29448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10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2-2 Economic Conditions Chang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400" y="2158560"/>
            <a:ext cx="866916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four phases of the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causes of inflation and 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importance of interes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the phases of the business cycle to chan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Prospe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er wag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Greater demand for goods to be produce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ore people buy houses, which creates work for builder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buy more goods from other countries, which benefits those countri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47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re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economic activity slow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96848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c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n the economy slows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 be too serious or too long, but signals trouble for some people’s job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pple Effect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in related business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 – home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on in one industry can cause a ripple effect throughout the entire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305400" y="333360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052880" y="4896000"/>
            <a:ext cx="2676600" cy="171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262080" y="3595680"/>
            <a:ext cx="3819240" cy="23716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Rec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2900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es produce less which means they need less workers </a:t>
                      </a: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Unemployment increas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have less money to spen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Fewer goods and services are produce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he GDP decli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What caused the “Great Recession of 2008?”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06280" y="2216160"/>
            <a:ext cx="8669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s and Effects of the 2008 Financial Cri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at the difference between a recession and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recession deepens and spreads throughout the entire economy, a nation may move into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932360" y="2575080"/>
            <a:ext cx="38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hase marked by a prolonged period of high unemployment, weak consumer sales, and business fail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1480" y="1960560"/>
          <a:ext cx="8180640" cy="4068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De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417840">
                <a:tc>
                  <a:txBody>
                    <a:bodyPr lIns="182880" rIns="90000" tIns="46800" bIns="468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 unemployme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Low production of goods and serv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Can last for several yea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Spreads to other countri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High number of unused manufacturing faciliti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Very rar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press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ck market crash on October 29, 1929, or “Black Tuesday,” marked the beginning of the Great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Depression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75" name="Picture 6" descr="depression"/>
          <p:cNvPicPr/>
          <p:nvPr/>
        </p:nvPicPr>
        <p:blipFill>
          <a:blip r:embed="rId1"/>
          <a:stretch/>
        </p:blipFill>
        <p:spPr>
          <a:xfrm>
            <a:off x="444600" y="1930320"/>
            <a:ext cx="8138880" cy="4243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3738960" y="3406680"/>
            <a:ext cx="14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</a:t>
            </a:r>
            <a:br>
              <a:rPr sz="1800"/>
            </a:b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Great</a:t>
            </a:r>
            <a:br>
              <a:rPr sz="1800"/>
            </a:br>
            <a:r>
              <a:rPr b="1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01880" y="3661920"/>
            <a:ext cx="148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GDP fell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nearly 50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349720" y="2873160"/>
            <a:ext cx="17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Unemployment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rose nearl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800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089080" y="4281480"/>
            <a:ext cx="227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average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ufacturing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wage was 5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cents an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988880" y="272880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y banks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around the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countr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001840" y="4422240"/>
            <a:ext cx="13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The money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supply fell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by one-th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61040" y="3438360"/>
            <a:ext cx="202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any t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and other civic bodies printed their own </a:t>
            </a:r>
            <a:br>
              <a:rPr sz="1800"/>
            </a:br>
            <a:r>
              <a:rPr b="0" lang="en-US" sz="1800" spc="-1" strike="noStrike">
                <a:solidFill>
                  <a:srgbClr val="23408f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ownturn doesn’t go on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starts to increase during a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ise in business activity after a recession or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 Co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01480" y="1960560"/>
          <a:ext cx="8180640" cy="41497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of a Reco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629880">
                <a:tc>
                  <a:txBody>
                    <a:bodyPr lIns="182880" rIns="900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start going back to work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People have money to purchase goods and service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Demand for goods and services stimulates </a:t>
                      </a:r>
                      <a:br>
                        <a:rPr sz="2700"/>
                      </a:b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more producti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New businesses ope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12"/>
                        </a:spcBef>
                        <a:buSzPct val="102833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Businesses become more innovativ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8254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9, the United States was beginning to recover from the depression when World War II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increased the rate of recovery because of the demand for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ngs were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Consumer Price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ying power of the dollar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increased 5% during the last year, items that cost $100 then would now cost $105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33912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“Back when I was a kid…..a candy bar was 45 cents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ate of In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in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’s buying power de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ncrease in the general level of pric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Rate of In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01480" y="1960560"/>
          <a:ext cx="8180640" cy="4189320"/>
        </p:xfrm>
        <a:graphic>
          <a:graphicData uri="http://schemas.openxmlformats.org/drawingml/2006/table">
            <a:tbl>
              <a:tblPr/>
              <a:tblGrid>
                <a:gridCol w="8180640"/>
              </a:tblGrid>
              <a:tr h="624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es of Inf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9360">
                      <a:solidFill>
                        <a:srgbClr val="23408f"/>
                      </a:solidFill>
                    </a:lnT>
                    <a:lnB w="5760">
                      <a:solidFill>
                        <a:srgbClr val="23408f"/>
                      </a:solidFill>
                    </a:lnB>
                    <a:solidFill>
                      <a:srgbClr val="23408f"/>
                    </a:solidFill>
                  </a:tcPr>
                </a:tc>
              </a:tr>
              <a:tr h="3565080">
                <a:tc>
                  <a:txBody>
                    <a:bodyPr lIns="182880" rIns="90000" anchor="ctr">
                      <a:noAutofit/>
                    </a:bodyPr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When demand is greater than suppl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W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the price of raw material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expens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Increase in salari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1880" indent="-461880">
                        <a:lnSpc>
                          <a:spcPct val="105000"/>
                        </a:lnSpc>
                        <a:spcBef>
                          <a:spcPts val="1089"/>
                        </a:spcBef>
                        <a:buSzPct val="102919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23408f"/>
                          </a:solidFill>
                          <a:latin typeface="Arial"/>
                        </a:rPr>
                        <a:t>Too much money circulating in the econom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 w="9360">
                      <a:solidFill>
                        <a:srgbClr val="23408f"/>
                      </a:solidFill>
                    </a:lnL>
                    <a:lnR w="9360">
                      <a:solidFill>
                        <a:srgbClr val="23408f"/>
                      </a:solidFill>
                    </a:lnR>
                    <a:lnT w="5760">
                      <a:solidFill>
                        <a:srgbClr val="23408f"/>
                      </a:solidFill>
                    </a:lnT>
                    <a:lnB w="9360">
                      <a:solidFill>
                        <a:srgbClr val="23408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flation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0760" y="2158920"/>
            <a:ext cx="41702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408f"/>
                </a:solidFill>
                <a:latin typeface="Arial"/>
              </a:rPr>
              <a:t>Def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occur when the supply of goods is greater than the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4932360" y="2575080"/>
            <a:ext cx="38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de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eneral decreas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ice of good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oxes"/>
          <p:cNvPicPr/>
          <p:nvPr/>
        </p:nvPicPr>
        <p:blipFill>
          <a:blip r:embed="rId1"/>
          <a:stretch/>
        </p:blipFill>
        <p:spPr>
          <a:xfrm>
            <a:off x="2025720" y="2314440"/>
            <a:ext cx="5871960" cy="3963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Graphic Organizer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89160" y="249336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y produces more goods than people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189160" y="329328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s lower pr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189160" y="407592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lers cut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89160" y="484920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have less money to buy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189160" y="5631840"/>
            <a:ext cx="55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and continues to go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189160" y="184248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408f"/>
                </a:solidFill>
                <a:latin typeface="Arial"/>
                <a:ea typeface="Arial"/>
              </a:rPr>
              <a:t>De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4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at is the stage that follows a recession or de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003320" y="334332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The recovery stage can happen after either a recession or a depressio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at is the difference between a recession and a de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03320" y="325296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A recession is a slight downturn; a depression is a major downturn.</a:t>
            </a: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2" descr="three two"/>
          <p:cNvPicPr/>
          <p:nvPr/>
        </p:nvPicPr>
        <p:blipFill>
          <a:blip r:embed="rId1"/>
          <a:stretch/>
        </p:blipFill>
        <p:spPr>
          <a:xfrm>
            <a:off x="420840" y="1263600"/>
            <a:ext cx="8367480" cy="4951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1003320" y="2367000"/>
            <a:ext cx="71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3408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408f"/>
                </a:solidFill>
                <a:latin typeface="Arial"/>
                <a:ea typeface="Arial"/>
              </a:rPr>
              <a:t>Why may innovation play an important role in the recovery stage of a business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1003320" y="3252960"/>
            <a:ext cx="71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Times New Roman"/>
              </a:rPr>
              <a:t>Innovation creates demand that leads to more employment and production, which leads to more de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reading guide copy"/>
          <p:cNvPicPr/>
          <p:nvPr/>
        </p:nvPicPr>
        <p:blipFill>
          <a:blip r:embed="rId1"/>
          <a:stretch/>
        </p:blipFill>
        <p:spPr>
          <a:xfrm>
            <a:off x="420840" y="1195560"/>
            <a:ext cx="8467560" cy="5011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093680" y="20970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  <a:ea typeface="Arial"/>
              </a:rPr>
              <a:t>The Main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68400" y="257976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93680" y="2565360"/>
            <a:ext cx="70786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market economy, there is an economic cycle, which includes four stages: prosperity, recession, depression, and recovery. These are also the four stages of the business cycle. In the last few decades, we have experienced the economic cycle a number of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Economic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 history has had patterns of good times to bad times back to good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24" name="Picture 4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ise and fall of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23408f"/>
                </a:solidFill>
                <a:latin typeface="Arial"/>
              </a:rPr>
              <a:t>business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ne country can affect other trading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0400" y="2158920"/>
            <a:ext cx="866916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siness cycle has four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95400" y="1481040"/>
            <a:ext cx="62596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000"/>
                </a:solidFill>
                <a:latin typeface="Arial"/>
              </a:rPr>
              <a:t>Business Cycle Model</a:t>
            </a:r>
            <a:endParaRPr b="1" lang="en-US" sz="24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25520" y="1425600"/>
            <a:ext cx="1422360" cy="541440"/>
          </a:xfrm>
          <a:prstGeom prst="roundRect">
            <a:avLst>
              <a:gd name="adj" fmla="val 35157"/>
            </a:avLst>
          </a:prstGeom>
          <a:solidFill>
            <a:srgbClr val="23408f"/>
          </a:solidFill>
          <a:ln w="50760">
            <a:solidFill>
              <a:srgbClr val="9ed3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b05"/>
                </a:solidFill>
                <a:latin typeface="Arial"/>
                <a:ea typeface="Arial"/>
              </a:rPr>
              <a:t>Figure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ig"/>
          <p:cNvPicPr/>
          <p:nvPr/>
        </p:nvPicPr>
        <p:blipFill>
          <a:blip r:embed="rId1"/>
          <a:stretch/>
        </p:blipFill>
        <p:spPr>
          <a:xfrm>
            <a:off x="0" y="2394000"/>
            <a:ext cx="914400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Two partner groups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5360" y="1720800"/>
            <a:ext cx="8669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most creative way possible, using construction paper, markers, color pencil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diagram of the Business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just use the diagram I showed you, come up with a way that shows a 4 stage cycle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5000"/>
              </a:lnSpc>
              <a:spcBef>
                <a:spcPts val="9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ck of your paper research / list the four stages of the business cycle and 4 characteristics of each stage (Prosperity, Recession, Depression, Reco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760" y="1235160"/>
            <a:ext cx="859464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0000"/>
                </a:solidFill>
                <a:latin typeface="Arial"/>
              </a:rPr>
              <a:t>Four Stages of the Business Cycle</a:t>
            </a:r>
            <a:endParaRPr b="1" lang="en-US" sz="3200" spc="-1" strike="noStrike">
              <a:solidFill>
                <a:srgbClr val="b40000"/>
              </a:solidFill>
              <a:latin typeface="Arial"/>
            </a:endParaRPr>
          </a:p>
        </p:txBody>
      </p:sp>
      <p:pic>
        <p:nvPicPr>
          <p:cNvPr id="139" name="Picture 3" descr="key term box copy"/>
          <p:cNvPicPr/>
          <p:nvPr/>
        </p:nvPicPr>
        <p:blipFill>
          <a:blip r:embed="rId1"/>
          <a:stretch/>
        </p:blipFill>
        <p:spPr>
          <a:xfrm>
            <a:off x="4624560" y="1909800"/>
            <a:ext cx="4378320" cy="4183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932360" y="2575080"/>
            <a:ext cx="38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3d"/>
                </a:solidFill>
                <a:latin typeface="Arial"/>
                <a:ea typeface="Arial"/>
              </a:rPr>
              <a:t>prosp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eak of econom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968480"/>
            <a:ext cx="443052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spe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the peak of the busines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goods and services is very high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ortunately, it cools down and activity slows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704880" y="571680"/>
            <a:ext cx="781200" cy="520560"/>
          </a:xfrm>
          <a:prstGeom prst="rect">
            <a:avLst/>
          </a:prstGeom>
          <a:solidFill>
            <a:srgbClr val="23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2:01:37Z</dcterms:created>
  <dc:creator>Glencoe/McGraw-Hill</dc:creator>
  <dc:description/>
  <dc:language>en-US</dc:language>
  <cp:lastModifiedBy>bstromes</cp:lastModifiedBy>
  <dcterms:modified xsi:type="dcterms:W3CDTF">2014-10-20T11:29:02Z</dcterms:modified>
  <cp:revision>117</cp:revision>
  <dc:subject/>
  <dc:title>Introduction to Business</dc:title>
</cp:coreProperties>
</file>